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410-BC3C-4F27-AC33-11EB992D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719-3338-42A8-93F8-25F700A6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997-9886-4D4C-A5CD-22EBDBD9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CA3-C634-4257-B943-07268191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932-4C92-49C8-A499-95CD1C4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8DB-5C15-4625-B9B4-0A44E85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830-1A97-49CA-92DB-36A580BF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531-209C-4270-8127-DCE6BA50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70D-060F-4CA8-BC45-7359469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4DD-1262-4F57-9781-84FBD7B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A5B-A71B-48F3-8238-E27E11E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D6F-C084-4456-8D01-45E3F6B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983A-678B-47FF-B61A-523C7FA0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bUtL_0vAJk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_2cwhJndKY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ave a Dream” Speech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el Chung, Morgan Smith, &amp; Ryan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the speech was presented on the steps of the Lincoln Mem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broadcasted to millions of listeners across the nation and the world via radio and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Ideas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eed to end segregation and discrimination against African Americ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a temporary movement; we will persist until we receive equal rights and just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ust be accomplished in a nonviolent ma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ust continue to work to establish brotherhood in all parts of the n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gust 28, 196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lkfreeatlast" descr=""/>
          <p:cNvPicPr/>
          <p:nvPr/>
        </p:nvPicPr>
        <p:blipFill>
          <a:blip r:embed="rId1"/>
          <a:stretch/>
        </p:blipFill>
        <p:spPr>
          <a:xfrm>
            <a:off x="-990720" y="-22320"/>
            <a:ext cx="10820520" cy="688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lkihaveadreamgogo" descr=""/>
          <p:cNvPicPr/>
          <p:nvPr/>
        </p:nvPicPr>
        <p:blipFill>
          <a:blip r:embed="rId1"/>
          <a:stretch/>
        </p:blipFill>
        <p:spPr>
          <a:xfrm>
            <a:off x="0" y="-4114800"/>
            <a:ext cx="9137520" cy="1352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Martin Luther King J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minent Civil Rights activist and pr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spite the 13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, and 15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Amendments and the victory in the Brown vs. Board of Education trial, many Negros were prevented from voting and segregation was still strong in many parts of the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June 11, 196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esident Kennedy proposed a new bill to Congress which would provide Negros with "the kind of equality of treatment which we would want for ourselves.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ern representatives in Congress blocked the b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ip Randolph, a labor leader and longtime civil rights activist, called for a massive march on Washington to dramatize the issu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0,000 followers gathered on the Washington Mall to listen to speeches.  About 1/5  of those who came were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tin Luther King’s speech was the highlight of the prot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2:23:22Z</dcterms:created>
  <dc:creator>Robert Christ</dc:creator>
  <dc:description/>
  <dc:language>en-US</dc:language>
  <cp:lastModifiedBy>NATASCHA A. LEAK</cp:lastModifiedBy>
  <dcterms:modified xsi:type="dcterms:W3CDTF">2008-04-16T01:22:24Z</dcterms:modified>
  <cp:revision>11</cp:revision>
  <dc:subject/>
  <dc:title>Slide 1</dc:title>
</cp:coreProperties>
</file>